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37C3-ADF9-47B7-97FE-DD40BE74B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90B-096C-4786-9BC1-7E6D5E68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8226-4F53-4D24-A562-039F0FA1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5CD2-875D-4AB0-86AF-40648257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997AF-A38C-468D-BB49-FD649B366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9637-4755-4F7E-BF0A-5D556037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6F66-C802-4620-A5F5-888BF4C6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F012F-41DF-48C4-8491-FB59968F0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9E419-B4E2-46A2-9693-CA5E8FF9C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A271-278F-4E7F-8567-A7C2D9223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2BFBB-BDA8-4FA4-B0F3-4101A05F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7A0E-BAFD-4B4E-9F41-6B74A66A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BCE4F-084C-4FA1-AFC6-73D49673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EC96-14B3-4C27-89DB-1EAB03F83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8353-2108-43D3-800D-4CFF4C84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A699D-8CDF-480E-89AD-C44985209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26C6F-214D-46C5-9F4B-E4EE581C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6DA04-141D-47C1-B442-51439F39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CA7-77DC-4F65-AB67-0BFD5D6F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289FF-F92F-425A-8712-B7F4D646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C9F9-3AC6-431A-A7CA-FA1A537D4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7ECC-7A3A-4980-9041-CC17FE87F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960E-D33E-42F1-AEA6-EB5CFD85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CA174-0263-459D-B6FB-58C24B561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C1D0A-C3BD-4ADC-B91F-FB0219E635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BBF54-0CFB-4CD9-9C61-2523EAEAA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1701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굴림"/>
              </a:rPr>
              <a:t>4-1 </a:t>
            </a:r>
            <a:r>
              <a:rPr b="0" lang="zh-CN" sz="4400" spc="-1" strike="noStrike">
                <a:solidFill>
                  <a:srgbClr val="ff0000"/>
                </a:solidFill>
                <a:latin typeface="굴림"/>
              </a:rPr>
              <a:t>일상의 상식세계 </a:t>
            </a:r>
            <a:endParaRPr b="0" lang="en-US" sz="4400" spc="-1" strike="noStrike">
              <a:solidFill>
                <a:srgbClr val="ff0000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3715920"/>
            <a:ext cx="603252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우리들의 </a:t>
            </a:r>
            <a:r>
              <a:rPr b="1" lang="zh-CN" sz="2000" spc="-1" strike="noStrike">
                <a:solidFill>
                  <a:srgbClr val="000000"/>
                </a:solidFill>
                <a:latin typeface="굴림"/>
              </a:rPr>
              <a:t>상식세계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가 갖는 특징은 무엇인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개인의 사회세계는 어떻게 구성되는가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?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</a:rPr>
              <a:t>일상생활의 패러다임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, pp. 119-182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838080" indent="-838080" algn="ctr"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시각의 상호성과 상식적 지식의 구조적 사회화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6960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입장의 상호 교환 가능성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적합성 체계의 일치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=&gt;        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러한 상식적인 사유의 구조물이 작동하여 내게 당연시된 세계의 부분이 나의 동료인 너에게도 더 나아가 우리에게도 당연시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인 지식의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             발생적인 사회화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696080" cy="34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개인적인 경험에 기원을 둔 지식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의 친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부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스승의 스승에 기원을 둔 지식들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비교적 자연적인 세계관의 전형적인 모습을 어떻게 정의하는지 배운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상식적인 사회화에서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일상언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의 역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사회적으로 획득된 기존의 전형들의 창고로서 아직 탐구되지 않은 내용의 열린 지평을 담지한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대충 추정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미루어 짐작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/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감으로 판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0. 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나의 사회세계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사회세계는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네 유형의 타인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의 관계로 이루어진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전형화된 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대방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선대인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11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일상적 사회세계의 구조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696080" cy="28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대면상황에서의 우리관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시간과 공간을 공유하는 타인들과의 상호작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너의 지향 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you-orientation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직접 경험된 사회 세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4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전형화의 구조와 ‘그들 관계’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간접 경험된 사회현실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동시대인의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높은 익명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추론적이고 간접적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들 지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they-orientation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19928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zh-CN" sz="3600" spc="-1" strike="noStrike">
                <a:solidFill>
                  <a:srgbClr val="000000"/>
                </a:solidFill>
                <a:latin typeface="굴림"/>
              </a:rPr>
              <a:t>선대인의 세계와 후대인의 세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역사화된 선대인의 세계에 대한 해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매개인의 해석과 나의 독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후대인 세계의 비결정성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과도기적 영역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알프레드 슈츠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Alfred Schutz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899-1959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오스트리아 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뉴욕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현상학적 접근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객관주의라고 하는 잘못된 과학의 경향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상생활세계에 대한 연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인간 중심의 사회 연구에 기여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580000" y="1773360"/>
            <a:ext cx="150516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생활세계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8640"/>
            <a:ext cx="7696080" cy="349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온전히 깬 의식을 가진 성인이 자신의 동료들과 함께 그 속에서 그리고 거기에 대해서 어떤 행위를 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그러면서 </a:t>
            </a:r>
            <a:r>
              <a:rPr b="1" lang="ko-KR" sz="3200" spc="-1" strike="noStrike">
                <a:solidFill>
                  <a:srgbClr val="000000"/>
                </a:solidFill>
                <a:latin typeface="굴림"/>
              </a:rPr>
              <a:t>자연적 태도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갖고서 하나의 현실로 경험하는 세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&gt;(Schutz, 1973: 208)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1)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심을 유보하는 혹은 판단 중지하는 인식의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새로운 경험에 의해 의심 없이 전제된 준거틀이 부정될 때까지 지속된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참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자연주의적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계를 오직 자연으로만 파악하는 태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자연적 태도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(2)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온전히 깬 정상적인 성인이 갖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을 주시하는 태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삶에서의 실천적인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실천적인 과제를 풀고자 하는 관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근본 근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&gt;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죽음에 대한 인식 혹은 두려움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당연시하는 것들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69608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변 동료들의 신체적 실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가 여기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!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와 나는 유사한 어떤 의식을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너의 환경과 내 환경 속 외부가 근본적으로 동일한 의미를 갖고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나와 너의 상호작용 속으로 들어갈 수 있고 너와 소통할 수 있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순수하게 나에 의해서 만들어진 것은 극히 일부분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                     </a:t>
            </a:r>
            <a:r>
              <a:rPr b="0" lang="ko-KR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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과연 그럴까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일상 상식의 구성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2276640"/>
            <a:ext cx="7696080" cy="32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모든 지식은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구조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constru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사유조직의 수준에서 일련의 추상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일반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형식화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이상화를 포함한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순수하고 단순한 사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(facts)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 같은 것은 없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처음부터 우리의 정신활동에 의해 어떤 보편적 맥락으로부터 </a:t>
            </a:r>
            <a:r>
              <a:rPr b="0" lang="zh-CN" sz="2800" spc="-1" strike="noStrike">
                <a:solidFill>
                  <a:srgbClr val="ff0000"/>
                </a:solidFill>
                <a:latin typeface="굴림"/>
              </a:rPr>
              <a:t>선택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된 것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전형화와 상식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인 진술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저 동물은 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대상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S)  +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특징적인 속성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P)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이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관심과 적합성에 의한 선택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에서 공유되는 상식적인 지식은 부분적이고 단편적이며 일관성이 결여된 모순적인 지식으로 나타나기도 한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727092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굴림"/>
              </a:rPr>
              <a:t>9. </a:t>
            </a:r>
            <a:r>
              <a:rPr b="0" lang="zh-CN" sz="4000" spc="-1" strike="noStrike">
                <a:solidFill>
                  <a:srgbClr val="000000"/>
                </a:solidFill>
                <a:latin typeface="굴림"/>
              </a:rPr>
              <a:t>상식적 지식의 사회적 성격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일상생활세계는 상호주관적 세계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상식적 지식의 사회화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나의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는 그에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p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가 아닐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그러나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우리는 일상생활세계의 상식적인 사유를 할 수 있다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0000"/>
                </a:solidFill>
                <a:latin typeface="굴림"/>
              </a:rPr>
              <a:t>왜</a:t>
            </a:r>
            <a:r>
              <a:rPr b="0" lang="en-US" sz="3200" spc="-1" strike="noStrike">
                <a:solidFill>
                  <a:srgbClr val="ff0000"/>
                </a:solidFill>
                <a:latin typeface="굴림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4T01:24:40Z</dcterms:created>
  <dc:creator>Staff</dc:creator>
  <dc:description/>
  <dc:language>en-US</dc:language>
  <cp:lastModifiedBy>Staff</cp:lastModifiedBy>
  <dcterms:modified xsi:type="dcterms:W3CDTF">2009-03-23T05:49:02Z</dcterms:modified>
  <cp:revision>9</cp:revision>
  <dc:subject/>
  <dc:title>일상생활의 상식과 과학 </dc:title>
</cp:coreProperties>
</file>